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3.jpeg" ContentType="image/jpeg"/>
  <Override PartName="/ppt/media/image40.jpeg" ContentType="image/jpeg"/>
  <Override PartName="/ppt/media/image35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BFA3-D81A-4C9E-A5D7-75A21CE0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968-C5E8-4070-9BEE-18CEAB77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6219-3537-4735-99AF-D717DC46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13E-7B3D-4F97-950B-8CE83B20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4E31-AFD1-4D96-AA63-A6114B88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AE41-C0DF-4489-AD1F-A76E5977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0AD8-44B4-49D9-A994-E38A221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193B1-B4CD-42FB-98A6-D958B8D9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90F6-E737-4FF3-87A2-F3DC4E4D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6BF6-8C6D-496B-A57F-A3B6828C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C223-63B5-4255-85D0-FC435A7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B3D-F383-4B9C-9A90-2A98C2D7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750C-6F9A-4526-A733-C08B845B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8ADD-1DED-4D98-A439-4D34A50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38E7-A6C7-4DEE-A7D6-E4B05493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5BD1-004D-45B9-9D27-7F1BDA72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BF55-46C3-4215-B707-82BBF2B7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CDC-D9EA-4D25-8019-A0232ACE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877-6F2E-4482-8E84-6A9A0A9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B83B-D411-4039-ADA2-CB4AAEE4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A2BD-3622-47F7-BD7E-37457FEC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1EA-292F-4DA0-9B74-18E166C0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917-FEB9-47F4-8C8D-DB65C16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1B2-D654-40F6-8195-6033EF2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6462-0CFB-4040-9BE1-C8B144C811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DE29-E9CB-49C1-A282-3A9AD5DEBB1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466spb.edusite.ru/p44aa1.html" TargetMode="External"/><Relationship Id="rId2" Type="http://schemas.openxmlformats.org/officeDocument/2006/relationships/hyperlink" Target="http://466spb.edusite.ru/p44aa1.html" TargetMode="External"/><Relationship Id="rId3" Type="http://schemas.openxmlformats.org/officeDocument/2006/relationships/hyperlink" Target="http://mirkartinochek.ucoz.ru/photo/druzhba/28-1-0-0-2" TargetMode="External"/><Relationship Id="rId4" Type="http://schemas.openxmlformats.org/officeDocument/2006/relationships/hyperlink" Target="https://pandia.ru/text/77/282/23102.php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038480" cy="27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униципальное общеобразовательное учреждение средняя общеобразовательная школа №25 им А.М.Черемухина г.Люберцы Московской обла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р: Костюк Виолетта Парвизовна, классный руковолитель 6 кл, 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Обсужде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4718160" y="1600200"/>
            <a:ext cx="3898800" cy="2171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934920" y="1600200"/>
            <a:ext cx="3083040" cy="2171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"/>
          <p:cNvPicPr/>
          <p:nvPr/>
        </p:nvPicPr>
        <p:blipFill>
          <a:blip r:embed="rId3"/>
          <a:stretch/>
        </p:blipFill>
        <p:spPr>
          <a:xfrm>
            <a:off x="849240" y="3924360"/>
            <a:ext cx="3252960" cy="2171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"/>
          <p:cNvPicPr/>
          <p:nvPr/>
        </p:nvPicPr>
        <p:blipFill>
          <a:blip r:embed="rId4"/>
          <a:stretch/>
        </p:blipFill>
        <p:spPr>
          <a:xfrm>
            <a:off x="5006880" y="3924360"/>
            <a:ext cx="33195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гра «Найди меня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дание: Кто быстрее соберет разрезанную на части открытк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флекс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Трудно было справиться с заданием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Все ли получилось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вствовали ли вы единение в своей групп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обираем открытку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3456000" cy="2549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240360" cy="2333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5435640" y="4365720"/>
            <a:ext cx="3425760" cy="217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29304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тча о человеке, решившем изменить ми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дин человек решил изменить мир. Но мир такой большой, а он такой маленький!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гда  человек решил изменить город. Но город такой большой, а он такой маленький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огда он решил изменить свою семью. Но семья у него большая, одних детей десяток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ак человек добрался до того единственного, кого он в силах изменить, будучи таким маленьким- самого себ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прос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Как вы поняли притч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Какой вывод сделали для себ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Есть ли у вас недостатк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Кто вам о них говорил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Хотели бы вы изменить себ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4140360" y="1557360"/>
            <a:ext cx="500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олерантность - интолерантно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Picture 2" descr="C:\Users\KM\Pictures\Новая папка\Руки.jpg"/>
          <p:cNvPicPr/>
          <p:nvPr/>
        </p:nvPicPr>
        <p:blipFill>
          <a:blip r:embed="rId1"/>
          <a:stretch/>
        </p:blipFill>
        <p:spPr>
          <a:xfrm>
            <a:off x="785880" y="1714680"/>
            <a:ext cx="7619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Определения ООН и ЮНЕСКО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олерантность (от лат. tolerantia — «терпение, терпеливость, способность переносить») — социологический термин, обозначающий терпимость к иному мировоззрению, образу жизни, поведению и обычаям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гласно определению, данному в Декларации принципов толерантности, терпимость (толерантность)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Garamond"/>
              </a:rPr>
              <a:t>Толерантность делает возможным достижение мира и способствует замене культуры войны культурой мира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Garamond"/>
              </a:rPr>
              <a:t>Толерантность означает признание того, что люди по своей природе различаются по внешнему виду, положению, речи, поведению и ценностям, обладают правом жить в мире и сохранять свою индивидуальность и не могут навязывать взгляды одного человека другим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990099"/>
                </a:solidFill>
                <a:uFillTx/>
                <a:latin typeface="Arial"/>
              </a:rPr>
              <a:t>       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ffff8"/>
                </a:solidFill>
                <a:uFillTx/>
                <a:latin typeface="Garamond"/>
              </a:rPr>
              <a:t>Интолерантность</a:t>
            </a:r>
            <a:r>
              <a:rPr b="0" lang="ru-RU" sz="2200" spc="-1" strike="noStrike">
                <a:solidFill>
                  <a:srgbClr val="0ffff8"/>
                </a:solidFill>
                <a:latin typeface="Garamond"/>
              </a:rPr>
              <a:t> – это неприятие другого человека, неготовность к сосуществованию с другими (иными) людьми; интолерантность проявляется через конфликтное, агрессивное поведение.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60000"/>
              </a:lnSpc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Что понимают под толерантностью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-испанцы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 признают отличные от своих собственных идеи или мнения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-французы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 допускают, что другие могут думать или действовать иначе, нежели они сами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-англичане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 готовы быть терпимыми, снисходительными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-китайцы</a:t>
            </a:r>
            <a:r>
              <a:rPr b="0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 великодушны по отношению к други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ffff"/>
                </a:solidFill>
                <a:uFillTx/>
                <a:latin typeface="Garamond"/>
              </a:rPr>
              <a:t>-арабы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 готовы прощать, быть снисходительными, мягкими, милосердными, сострадательными, благосклонными, терпеливыми, расположенными к другим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толерантност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лерантность- это неприятие другого человека, неготовность к сосуществованию с другими (иными) людь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лерантность проявляется через конфликтное, агрессивное поведе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9efee"/>
                </a:solidFill>
                <a:latin typeface="Garamond"/>
              </a:rPr>
              <a:t>То1егапсе (английский): Готовность быть терпимым, снисходительность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038480" cy="3795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2"/>
          <a:stretch/>
        </p:blipFill>
        <p:spPr>
          <a:xfrm>
            <a:off x="4788000" y="1600200"/>
            <a:ext cx="3759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«Веер проблем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(конфликты и способы их решения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аждом человеке есть солнце, только дай ему светит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92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9efee"/>
                </a:solidFill>
                <a:latin typeface="Garamond"/>
              </a:rPr>
              <a:t>Толерантность, терпимость (русский): способность терпеть что-то или кого-то (быть выдержанным, выносливым, стойким, уметь мириться с существованием чего-либо, кого-либо), то есть допускать, принимать существование чего-то/кого-то, считаться с мнением других, быть снисходительным к чему-либо/кому-либо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aramond"/>
              </a:rPr>
              <a:t>«Если я чем-то на тебя не похож, я этим вовсе не оскорбляю тебя, а напротив, одаряю»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А. де С. Экзюпери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мблема толерант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9" name="Picture 2" descr="C:\Users\KM\Pictures\Новая папка\iCAPDTCDZ.jpg"/>
          <p:cNvPicPr/>
          <p:nvPr/>
        </p:nvPicPr>
        <p:blipFill>
          <a:blip r:embed="rId1"/>
          <a:stretch/>
        </p:blipFill>
        <p:spPr>
          <a:xfrm>
            <a:off x="2139840" y="1600200"/>
            <a:ext cx="4864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1160" y="0"/>
            <a:ext cx="913284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913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42876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Благожелательность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гнорирование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Обзывание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еребивание, неумение слушать друг друга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одбадривание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оддержка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охвала, согласие</a:t>
            </a:r>
            <a:r>
              <a:rPr b="0" i="1" lang="ru-RU" sz="27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едостережение, предупреждение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иказ, указание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Совет, предложение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Уважение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Угрозы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Умение внимательно слушать и слышать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Утешение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200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акие качества преобладают у вас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гоиз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езразли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сокомер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дражитель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поним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сторожен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датель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крыт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зывчив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бро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нима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мение владеть соб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важение мнения друг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п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окойств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264168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3186360" cy="21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971640" y="1484280"/>
            <a:ext cx="2968560" cy="2171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4749840" y="3924360"/>
            <a:ext cx="38336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флексия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ы хотели бы, чтобы о нашем классе говорили- дружный класс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для этого нужно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то может сделать наш класс еще друж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887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ЦЕЛЬ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Формировать конфликтную компетентность учащихся; содействовать преодолению психологических барьеров, мешающих принять себя и уважительно к себе относиться ; научиться избегать конфликтных ситуац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гра «Давайте говорить друг другу комплименты»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кругу пускается мяч. Он передается из рук в руки с ласковыми, доброжелательными слов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флекси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Трудно говорить друг другу хорошие слова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Как часто вы их говорите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0388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3949920" cy="2737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"/>
          <p:cNvPicPr/>
          <p:nvPr/>
        </p:nvPicPr>
        <p:blipFill>
          <a:blip r:embed="rId2"/>
          <a:stretch/>
        </p:blipFill>
        <p:spPr>
          <a:xfrm>
            <a:off x="4932360" y="620640"/>
            <a:ext cx="4032360" cy="2737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3959280" cy="2808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"/>
          <p:cNvPicPr/>
          <p:nvPr/>
        </p:nvPicPr>
        <p:blipFill>
          <a:blip r:embed="rId4"/>
          <a:stretch/>
        </p:blipFill>
        <p:spPr>
          <a:xfrm>
            <a:off x="4948200" y="3500280"/>
            <a:ext cx="3944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Выдержки из сочинений о дружбе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600720" cy="367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"/>
          <p:cNvPicPr/>
          <p:nvPr/>
        </p:nvPicPr>
        <p:blipFill>
          <a:blip r:embed="rId2"/>
          <a:stretch/>
        </p:blipFill>
        <p:spPr>
          <a:xfrm>
            <a:off x="5105520" y="1919160"/>
            <a:ext cx="312408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Что нужно для того, чтобы уметь избежать конфликт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спокойстви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терпение;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доверие;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уметь вовремя протянуть руку помощи;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умение владеть собой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терпимость к различиям;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доброжелательность;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нимать других такими, какие они есть, так как каждый индивидуален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дведение итогов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857160" y="1428840"/>
            <a:ext cx="7740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b9efee"/>
                </a:solidFill>
                <a:latin typeface="Garamond"/>
              </a:rPr>
              <a:t>Домашнее задание: </a:t>
            </a:r>
            <a:br>
              <a:rPr sz="3200"/>
            </a:br>
            <a:r>
              <a:rPr b="0" i="1" lang="ru-RU" sz="3200" spc="-1" strike="noStrike">
                <a:solidFill>
                  <a:srgbClr val="b9efee"/>
                </a:solidFill>
                <a:latin typeface="Garamond"/>
              </a:rPr>
              <a:t>написать сочинение на тему: «Я подарок для человечества, так как я…»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0" name="Picture 2" descr="C:\Users\KM\Pictures\Новая папка\view[1].jpg"/>
          <p:cNvPicPr/>
          <p:nvPr/>
        </p:nvPicPr>
        <p:blipFill>
          <a:blip r:embed="rId1"/>
          <a:stretch/>
        </p:blipFill>
        <p:spPr>
          <a:xfrm>
            <a:off x="3133800" y="2214720"/>
            <a:ext cx="287640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пасибо за внимание!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Давайте жить дружно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2" name="Picture 2" descr="C:\Users\KM\Pictures\Новая папка\leopold11[1].gif"/>
          <p:cNvPicPr/>
          <p:nvPr/>
        </p:nvPicPr>
        <p:blipFill>
          <a:blip r:embed="rId1"/>
          <a:stretch/>
        </p:blipFill>
        <p:spPr>
          <a:xfrm>
            <a:off x="1357200" y="2214720"/>
            <a:ext cx="692964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0" y="1643040"/>
            <a:ext cx="3857760" cy="4929120"/>
          </a:xfrm>
          <a:prstGeom prst="rect">
            <a:avLst/>
          </a:prstGeom>
          <a:solidFill>
            <a:srgbClr val="6ab475"/>
          </a:solidFill>
          <a:ln w="9360">
            <a:solidFill>
              <a:srgbClr val="33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://466spb.edusite.ru/p44aa1.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http://mirkartinochek.ucoz.ru/photo/druzhba/28-1-0-0-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99"/>
                </a:solidFill>
                <a:uFillTx/>
                <a:latin typeface="Garamond"/>
                <a:hlinkClick r:id="rId4"/>
              </a:rPr>
              <a:t>https://pandia.ru/text/77/282/23102.ph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5"/>
          <a:stretch/>
        </p:blipFill>
        <p:spPr>
          <a:xfrm>
            <a:off x="357120" y="2000160"/>
            <a:ext cx="40388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1714680" y="500040"/>
            <a:ext cx="6929280" cy="478620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185724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2643120" y="3978360"/>
            <a:ext cx="56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d4d"/>
                </a:solidFill>
                <a:latin typeface="Garamond"/>
              </a:rPr>
              <a:t>https://pandia.ru/text/77/282/23102.ph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1785960" y="366696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4d4d"/>
                </a:solidFill>
                <a:latin typeface="Garamond"/>
              </a:rPr>
              <a:t>http://mirkartinochek.ucoz.ru/photo/druzhba/28-1-0-0-2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Прямоугольник 13"/>
          <p:cNvSpPr/>
          <p:nvPr/>
        </p:nvSpPr>
        <p:spPr>
          <a:xfrm>
            <a:off x="2643120" y="4738680"/>
            <a:ext cx="37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://466spb.edusite.ru/p44aa1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слеслов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4038480" cy="3517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038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дачи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aramond"/>
              </a:rPr>
              <a:t>-Образовательные</a:t>
            </a:r>
            <a:r>
              <a:rPr b="1" lang="ru-RU" sz="1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-ознакомить учащихся с  понятиями: конфликтная ситуация, конфликт;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лерантность и интолерантность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-  Воспитательны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воспитывать уважительное отношение к окружающим людя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формировать социально одобряемые формы поведе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воспитывать чувство единения всеучащихся в классе, значимости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аждого для общего дел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3924000"/>
            <a:ext cx="4114800" cy="25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Garamond"/>
              </a:rPr>
              <a:t>-Развивающи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учить все задействованные в конфликтестороны избегать конфликтных ситуаций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-формировать представление о различных вариантах человеческого общен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3241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4648320" y="1268280"/>
            <a:ext cx="4038480" cy="38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едварительная подготовка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борка учащимися высказываний о дружб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Написание сочинений о дружбе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Что такое дружба?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Хороший ли я друг?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Если бы у меня был друг(подруга)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у учащихся активной жизненной позиции, уважения к людям, готовности помочь ближне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2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588000" cy="4535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«Истинная дружба должна быть откровенна и свободна от притворства и поддакивания»</a:t>
            </a:r>
            <a:br>
              <a:rPr sz="24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                                                           Цицерон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Веер проблем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1-отношение к себ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-отношения с одноклассникам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3-отношения с другом(подругой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4-отношение к людя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5-уважение мнения други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6-умение владеть собо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Задание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асс делится на 6 групп. Каждая группа получает свой «лепесток» от веера. На обсуждение проблемы дается 5 мин. Выступает от группы 1 представитель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флекс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С какими трудностями столкнулись при обсужден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Узнали что-то новое о своих товарищах при обсуждении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16:42:54Z</dcterms:created>
  <dc:creator>Admin</dc:creator>
  <dc:description/>
  <dc:language>en-US</dc:language>
  <cp:lastModifiedBy>303</cp:lastModifiedBy>
  <dcterms:modified xsi:type="dcterms:W3CDTF">2022-03-31T14:11:35Z</dcterms:modified>
  <cp:revision>12</cp:revision>
  <dc:subject/>
  <dc:title>Классный час  «Веер проблем» (конфликты и способы их решения)</dc:title>
</cp:coreProperties>
</file>